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dt" idx="6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F9542D21-7739-43D2-BF94-CD6E46D2C55A}" type="datetime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26/07/30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ftr" idx="6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 type="sldNum" idx="6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880E50B4-D878-4CCC-88BC-DE1801F7EA21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9540-E407-409A-AD7D-C5803895A89D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F532-8056-481C-85FA-6A2587AA8A6A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F54-A7EC-43EF-8C3D-DB2618BD0767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DA6F-4259-4001-9F59-9EE432BE53FF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0CBA-2126-47F6-8C24-3C98F0A8DFDF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3902-AD60-4DA3-8F04-DFBB7188DF73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EA78-883F-4948-B27F-CE805AD6656A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4140-4688-4444-AD0E-82CD480C3234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2006-8F92-4267-9F92-3BA9F8090CEE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EB27-5E36-434D-ACE0-0A39341E540C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5B1F-07CE-4741-A7B5-3D5F0559C4FE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DA35-F782-47A6-8AE0-3EB9516F73D2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46FC6942-B503-4C5D-B4D2-186FA4F2302A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C914E177-14F4-4D56-B331-5E8A3764150D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3493-9964-417E-9735-11DFFEF24F19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50A0-0B55-489C-A3EC-64A3A41F6E5C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1CE9-E145-417D-B3F8-EEBEE5385542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924F-90C4-443A-9FC2-18CE6F630C7D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CBFC-AB8B-4C48-96A6-A3E32BD8B3D2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AA1C-3DAE-4B93-8B8D-148908DF325E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2B9-A759-498F-8F11-82487E9AB496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FC1-3BF2-4B9D-AB45-22ABE083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816-53B4-4DCF-B72A-7E7EA6E2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1FBDF-A4F4-4933-9174-6449FD67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81574-0790-48AB-B96E-CFFE8294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42677-2DD8-440C-BFFA-7169A05A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9607-2C25-4CF8-958D-F2CBAC08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3DC19-FE28-4312-A9E5-229531A1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4F9F5-9F32-4672-9DEA-D62787E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3B5A4-3FB6-4BBD-91E9-A2B03737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E133E-9CF7-4942-9DBE-4FF71ABC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C9A8F-597A-4E5C-BB75-526E8D32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792E3-AD7F-49B6-B2D7-FC4A3FBD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49C-1DC9-4B0E-977F-DDC81209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E8D47-63C9-4789-A4D0-21B76A20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3AB96-CB8A-45F7-BA49-632A57BD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C3FAE-7D76-4CDE-8967-E654E22A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04D93-4F47-4FDC-A624-0C3130F2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22861-7E9B-4DF4-9FFF-FFBE6F93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72A6C-513D-4D72-942F-6AFBB6E5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88411-3811-4074-BB99-AF6239F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13E32-859D-4986-A024-62B66A1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0749C-883E-49E8-A9DD-87086932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4E5CA-90F2-4774-8550-46FEFC8A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49B-7616-4A79-BB5B-BD251986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BCDE8-B186-45CA-80A3-BC2D6D11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C370F-9B6D-4539-A759-1B37A2A8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3E8D-7D87-4DA1-9818-F738FFC9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81142-300E-48B7-9319-6F49A6DC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3DC8A-CED6-4B16-9A95-AD248BE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7B662-4CD4-4A9C-A2A7-D080DB00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92620-B812-4789-ADD5-49E7D6BB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6B0D8-4613-4270-A257-CB05416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57C6A-CE76-4954-B71A-89F40EC6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FA77D-A4EC-409D-AA16-1581DA2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C8EA-F3F1-4180-ADD0-35685C12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8AF3E-E924-489F-B2F1-42A62ECD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12094-DDB4-439C-9640-8BEC6A8B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F59CF-9261-4EDD-A8C6-7B63F08B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83C4B-417D-456E-B655-B2ACAED5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AB9C1-B293-4CFF-A363-F03D0F8B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C7B1A-4323-419A-9B7C-7D6E3B93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D7DF1-606E-4596-9C4C-5A122DDA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B2D6E-4839-4FCC-919F-B9B7E8D6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8437C-A424-4ADA-802B-69625DFE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9724D-E55B-42D9-88F2-DB3E043A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81BC-A3B8-4A53-BB85-5750A7FE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248E3-A874-4A96-B3A9-4DC6150C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800BD-33DA-415A-A38F-55A8B978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CCD7F-C4D5-4006-903A-EB6165EC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7F0FD-040D-486B-BC0D-C0929905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10B56-13CB-4E3F-BC34-BF9A4ADE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D07F4-1634-4E4F-AD00-5024E794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50499-B784-4740-87CD-29910BC0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A8E54-13DD-4732-84E8-93667EE1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D1CB4-3D92-4059-96EF-5C40494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1E35D-6FFC-412A-B8C1-1C2A0E29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8F5B-3CF6-4020-B849-83F2FD42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22E88-90D1-4B5D-994D-208C574F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21AB6-1D96-4EE1-B229-76A20EB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057B7-83CA-4D02-9991-26BFB88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1EF24-6BA7-4779-AB05-31F8C77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6B9A2-A12D-4FE4-B9AB-8DAF3063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FE5EE-F3F4-419E-B4F6-1089F0E6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CAFF4-FDEA-4DB7-865A-9FFE7E05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F0565-A3C9-4FCD-8BA5-0A872DB2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96381-CD36-4E45-8336-06355DA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DB214-B794-4333-AFEA-E9777D2A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7102-6007-409D-8BA5-B0D525F9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24DDB-3E8E-40B4-A2CF-FEB070F9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BA419-F276-4211-B152-FE9E3E26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BCC07-A131-4A82-95F0-66119D3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A839B-C22A-416F-A112-913426F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2BF27-88A0-49EE-A046-61CEA149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5E7D1-93B7-4EA1-AA1E-65EFF58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12E57-90F1-45AE-9AD4-D53DF90D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2F9A9-D3EC-488E-92FC-EF72F9B9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2324F-8312-4023-B722-3AE6F44B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0CB56-46AD-415B-B87F-47DE6DB7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D1C7-A51E-41C0-A3CD-E82D7F6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E73F2A-6E20-41D3-B079-D7CE064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21EA6-9C2F-4689-8E50-33557D0F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94AFC-5503-4083-A547-FF6905A8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79D82-06A3-4246-AAE1-23245046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E6D2E-5501-4989-87CE-609D8FF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CBBA0-ED5E-4F4C-BE4C-16FFF481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36BF1-4400-4E96-835C-BC4EA435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A4A01-8E8F-41F2-85B3-B104A130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66E15-C74C-4E8B-80F6-04342C38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9D4C4-45BA-40AF-8AD6-0E3810BB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9634-81AC-470A-A54E-0515F78D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39296-648E-4FD1-8D70-E6BF16AD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E6C5F-FDE9-43FE-A280-151F50E2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0CFA2-E080-43B2-9656-7DAF4F2A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846B3-FD53-41CC-873E-FB552F38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8E0E7-F0EE-4F1A-98D4-98F589DF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DA3A1-D515-4C52-BD62-2C31E014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C1134-5745-466B-B7E6-9F0074F2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EC611-3B9A-4C76-936B-6A295E5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C0F05-0C8A-44ED-9364-A06AA5E3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55740-8D59-4054-8CD7-B48D4F3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955D-3D4F-49F2-98FB-D1D50628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6B2DE-8A12-43BF-ABC8-A1F8D2A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D08CC-6589-470B-8F41-D688E69E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4BF9F-3D93-4E9C-8656-7043B81A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AD8BC-0718-46AB-BA1D-72A38E76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1BE0AB-BA3A-425C-89F5-6E26DB6B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2C6243-116A-4BAA-9609-73BBB2A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DA16F-188A-4FDE-95CB-DBC35744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D5168-48AE-43FF-AF4A-8EF2F8E6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CA594-14E0-4FD3-951E-9EF87675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7BE31-2FD4-4CA1-A85D-D9F7209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3D7-9F14-4035-8A57-4240A93C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7510-4699-40F0-95C7-CED8BDCA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89E0E-8488-4143-9129-E8440FEF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8E6FA-EE09-4386-9309-E406CB31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49EB0-4AB7-4AFA-B695-65677840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1811E-B405-4066-B065-5710DF96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3D746-F3ED-44EB-9524-E6E831D4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62000-7F1F-41E2-87B4-BC396D86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DA725-FBE6-4FEF-BE17-6207040A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36C78-6056-4B39-83EB-D0B8590E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479BC0-1F08-48D2-8874-A63BF83E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45BFC-98BB-4755-82AC-2F67AD61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1717-6F7A-419E-B485-CC79C5A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E9057-E5CD-4E2E-8A5C-05025A0B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4DA4C-6DF7-4135-916D-3BA75036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AC6D6-914A-4B30-B559-B64C23D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7BFD5-0940-4B8E-8F72-91BF1083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306F9-9D01-4EC3-9046-3464CD55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D0511-D984-4233-BE39-6EBAD1AE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4C092-2F94-45EC-82E2-D6ECB715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CDFF3-1599-40AA-9F1A-918130DD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7E43C-CF6D-44D2-A75B-63572C70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91EE3-9EC2-4C26-A065-D2FA46EA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43FB-5355-4D61-9C7F-9EA41E93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74B49-F5B8-45A9-AFAB-78F02782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2F4BD-609F-4F06-AD2F-71F5A8DA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1E77F-1607-41E1-8AF0-F72D67BC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24EB7C-25E9-407D-AD5F-9330856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FD5459-6A17-4EE3-ACDD-357BAA0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F0BE0-D4B9-4C77-91C8-75150D20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70898-A4C4-4CB2-A0B4-5B05110E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6E6AA-E141-4A88-A62A-9BD6B583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36E12-899B-41A2-8465-C61FC523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8D44A-0B11-4436-8913-0D430E6C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8DAB-0E27-4347-AD04-9322E230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02EFD3-9AAB-48BE-8628-7C175087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295A6-C010-46BD-8E12-B59E24B8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4E792-74B5-4400-AB89-F5463095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2BB1B-5D47-47E2-A503-BDD80DC2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30341E-9712-46E3-9970-07C432BC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338DF7-33AE-47A7-ABFD-CD06687B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13659-3C06-4216-9A5A-A68FCF9B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101C3-6711-4048-98B5-64661930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5E7BF-10AE-4E4A-8DCF-A8BD01EE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6BED2-0718-49AB-A156-70A67000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2003-D60C-43BA-9670-04916052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CCE90-7BAF-4AD4-9947-1160E567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3C34-7D80-4085-8E4A-7901C4E6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DAB2-1E22-4DC3-887E-AA20169C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8FB8-E689-44A0-AB3C-3642D644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FE9B-DF41-4CD9-B1ED-4F890C9A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D510-6DB3-4AA6-90D1-78FCF273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6AC-03B8-4453-88BE-C11FDE5B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D354-4966-4F95-B4E7-2676C118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D4E9-792B-47C3-9DD5-5ACC35E7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AAC0-AC78-4120-BF11-729821AF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41D6-15BB-4214-8052-018CF11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4BD9-7234-4481-9171-08E1D8D9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81D0-1E95-47FE-B2BC-99FB2B7A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AA88-29F1-41B8-9E46-AF9322AD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A665C-EDBA-4BD0-9C07-66D142C2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17D87-34DD-4555-BCCC-B31832DD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FFF95-78A6-4FCC-B285-2E9894BA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964-EA73-4A08-8E7E-81A3622E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7A6DA-923E-45FB-9F42-00157285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0621-DEE8-46E1-A7CB-96A74F83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8E8B1-B4C2-44A2-BB4B-2F93F9EB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8EAF-34A0-444E-A426-CB7D9CF5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96F03-F345-42FE-9910-F9E24740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C3ECE-7B7A-4541-B794-4D2E61B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2C72-260E-4309-B968-62014B28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D5D6-0127-4A7A-A11E-D28BB51E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44BF-B2D6-4B53-B592-373A7082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41E3-7929-4B52-94BB-2B680470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56B-D3EC-482C-AB8E-44FE0D1B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97F38-C98B-4FBD-8C2D-A0A526D6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E9C90-C610-486D-AABE-15F5AE36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45302-0F0D-4350-8E35-6BD87FAD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6208E-DFA4-42C5-9655-8F5F3408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FF2B-0370-4DDD-B49B-73155264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26AE-B0AC-4FC5-A0AF-715EE1E8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ED6EE-3209-46F3-81F5-BC53A14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059F5-A830-4405-BC4C-CA1DBB2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A7FE-5C73-4CF0-9ED4-CB96C502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2BD2-1E0A-4DC0-A109-FF999F23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D7D-080F-429F-9330-85D13120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0FB91-5E7D-4FBF-8E73-71BFCB38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80AE-CF60-42FF-8D42-F6C6CE59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446C8-C682-4F62-8928-0C3CEF68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20FB3-7A44-4EF1-B5A6-10EBA67A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4576C-B064-4020-8E9D-B8BBD9C7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A3CF0-E588-4790-B79A-ECFB0DD3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52C0F-8E87-4D4F-8BAE-1C8F56A1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589C8-4452-4A44-B8D6-F43435F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B247A-B2F0-464C-B18D-4D9B3F4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D88C3-2B46-46EC-9A05-DB356F9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068-2D02-4F66-B3B7-B92AF63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687B-7544-467D-AE02-C3CB1894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8D1D-B30A-4CCB-A7E7-B32EA7FA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3A9EC-682E-4442-AE57-9D413167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ACB58-A748-4491-B893-35D5796C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B7C4-160C-48A2-857E-43B4AD3E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2278A-21F9-4EF2-BA43-C719E329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6D06D-94AD-455A-A8E9-E3782249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A6EBB-39DE-498E-B374-D0C48449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409B8-46AD-449D-B10B-2BB45199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98E01-DCA3-46AE-8FBD-26811385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3BD-F429-457D-BF48-FF2E8E8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E67F2-21EA-4B56-A85E-DF1CA266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C268C-9748-4C75-B289-68E5EB70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A5519-007F-41FD-B199-1C5D021D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E6F12-7F38-4A84-80BF-8E772EE3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F59D8-EAC3-4D0F-A631-EB51D509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69C88-C1F5-4430-A8F0-8CF9ABE4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A5EBA-C52D-4F16-A0B4-562F314C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09A2E-1AF4-4E05-BDAA-B87B777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C5603-939F-4618-8DCD-81F3159F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5D773-717B-47A0-ABFD-DBDE2ADD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FE3-4AB1-45F6-A190-63B59CB8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EE19F-CD4D-4BA6-ADC5-085CB9FB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6570C-8786-4D0D-8352-D6A4014C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C6B1C-15B5-4B3A-922F-57095FC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CE86B-535E-432F-B95A-B74D18B0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863D9-F102-4902-B834-8E32B8A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04C0F-1023-4118-B3CC-989F304A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469D6-37C5-4449-B51F-680BD8F9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F1F4F-BD06-4E83-B9D3-02933B5C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1A4F0-1A7F-4302-9A3E-A490000A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BEEDD-F11F-4B4D-8A15-C3384BFD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C696-1851-40B0-A2C4-17DF6D2E33A1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C2A8-BBEA-432B-9381-4B8AC4AC8331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F2E2-2679-4F63-A7DD-F94B63A25337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11B9-5938-4D61-BB79-AA42CA2B06CD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EFE8-4802-4345-92E0-BEF6748A58E2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C040-6907-4CB5-8DA8-4A1486503B94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9901-AB74-4998-87C1-F6BD077C0ECC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C708-8D20-44FE-8D21-2A4319713B43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AEAD-0ECC-432A-A972-DE73ECCAD24D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DA86-73EC-4FE6-AFE9-2CD4F3DEEF36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5A39-E178-4DCC-B600-D7429868C9E0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F7F5-B7CC-4658-A768-E71DE5471D55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B141-1E56-431A-9A1F-451AC1DD6E54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288E-4E49-4D83-B383-9135DFC47759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A7F7-56DC-4231-B147-039B9DEC1507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8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9511-F21C-4AC3-BBAA-0954169BC56A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1DC-66CC-444A-865C-338E54B7859A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5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5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4CB7-2C33-4851-8532-9D7D369AE91A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52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B958-813E-446E-82E6-BD2396884342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0F70-DDBE-4D18-AF6F-4F1174AA8C0F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01FF-D854-4F6C-8B9B-525ED22670BA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3D8A-D662-47B8-ACFF-95CB040433DC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C462-9F8E-4DBF-B5D2-CC0975CBF456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7B4-03FA-4DA6-B7D7-0DA79D039120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58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1BD-5466-4328-BF9F-E362C0F39922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9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60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876E-F1E4-4CEA-9DB4-99D0A5EE0EAA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C82F-5702-46BB-A51C-3C6FBE7EEF36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F82C-3685-47A7-811A-8F84804D8DEB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7D83-0FE5-4D06-882D-2335456A9992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E0A4-52AB-47C5-A099-4E774EE05C1D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6F2-5A91-4C70-849B-A4B09229205C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0FA9-3268-441F-B71C-703EBD4CE7CF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26B2-35C7-451E-BA13-C0045B51A0B5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4CB8-F128-44FA-90F1-94FF99E75D18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34E3-C630-498F-A0A0-B7E812D8B5C2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6E3A-7255-45DC-83D4-6FD75666FFCF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2148-3A9F-44A6-A179-566AE82565FE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EF2-01B8-42E9-874D-9158359614B3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8531-701E-472D-945F-91F7EF59B140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0DB8-9647-4D98-A9C2-BC62CEAB73CF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スライド番号プレースホルダー 3"/>
          <p:cNvSpPr/>
          <p:nvPr/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0F4A-FA60-412B-9186-94CEA4CD522B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31520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オープンデータの取り組み</a:t>
            </a:r>
            <a:br>
              <a:rPr sz="4800"/>
            </a:b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について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7315200" cy="18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令和２年１月７日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流山市　総合政策部　情報政策・改革改善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課長補佐　佐藤　慎一郎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FCCA-9A3C-4CEB-9963-05CD7A12A981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デー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オープンデータでは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テキスト ボックス 7"/>
          <p:cNvSpPr/>
          <p:nvPr/>
        </p:nvSpPr>
        <p:spPr>
          <a:xfrm>
            <a:off x="395280" y="1773360"/>
            <a:ext cx="1584360" cy="576000"/>
          </a:xfrm>
          <a:prstGeom prst="roundRect">
            <a:avLst>
              <a:gd name="adj" fmla="val 16667"/>
            </a:avLst>
          </a:prstGeom>
          <a:solidFill>
            <a:srgbClr val="4ec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価値あるデ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テキスト ボックス 8"/>
          <p:cNvSpPr/>
          <p:nvPr/>
        </p:nvSpPr>
        <p:spPr>
          <a:xfrm>
            <a:off x="2627280" y="177336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0d5d7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ＭＳ Ｐゴシック"/>
              </a:rPr>
              <a:t>使いやすい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正方形/長方形 9"/>
          <p:cNvSpPr/>
          <p:nvPr/>
        </p:nvSpPr>
        <p:spPr>
          <a:xfrm>
            <a:off x="2050920" y="184464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e5d7b"/>
                </a:solidFill>
                <a:latin typeface="ＭＳ Ｐゴシック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右矢印 10"/>
          <p:cNvSpPr/>
          <p:nvPr/>
        </p:nvSpPr>
        <p:spPr>
          <a:xfrm>
            <a:off x="5219640" y="1916280"/>
            <a:ext cx="28908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e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87" name="テキスト ボックス 11"/>
          <p:cNvGrpSpPr/>
          <p:nvPr/>
        </p:nvGrpSpPr>
        <p:grpSpPr>
          <a:xfrm>
            <a:off x="5705640" y="1542960"/>
            <a:ext cx="2914560" cy="1108080"/>
            <a:chOff x="5705640" y="1542960"/>
            <a:chExt cx="2914560" cy="1108080"/>
          </a:xfrm>
        </p:grpSpPr>
        <p:pic>
          <p:nvPicPr>
            <p:cNvPr id="888" name="テキスト ボックス 11" descr=""/>
            <p:cNvPicPr/>
            <p:nvPr/>
          </p:nvPicPr>
          <p:blipFill>
            <a:blip r:embed="rId1"/>
            <a:stretch/>
          </p:blipFill>
          <p:spPr>
            <a:xfrm>
              <a:off x="5705640" y="1542960"/>
              <a:ext cx="2914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Rectangle 183"/>
            <p:cNvSpPr/>
            <p:nvPr/>
          </p:nvSpPr>
          <p:spPr>
            <a:xfrm>
              <a:off x="5776920" y="1609560"/>
              <a:ext cx="2774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コンピュータで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扱いやすいこと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0" name="正方形/長方形 12"/>
          <p:cNvGrpSpPr/>
          <p:nvPr/>
        </p:nvGrpSpPr>
        <p:grpSpPr>
          <a:xfrm>
            <a:off x="669960" y="4280040"/>
            <a:ext cx="8096040" cy="1395360"/>
            <a:chOff x="669960" y="4280040"/>
            <a:chExt cx="8096040" cy="1395360"/>
          </a:xfrm>
        </p:grpSpPr>
        <p:pic>
          <p:nvPicPr>
            <p:cNvPr id="891" name="正方形/長方形 12" descr=""/>
            <p:cNvPicPr/>
            <p:nvPr/>
          </p:nvPicPr>
          <p:blipFill>
            <a:blip r:embed="rId2"/>
            <a:stretch/>
          </p:blipFill>
          <p:spPr>
            <a:xfrm>
              <a:off x="669960" y="4280040"/>
              <a:ext cx="80960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Rectangle 186"/>
            <p:cNvSpPr/>
            <p:nvPr/>
          </p:nvSpPr>
          <p:spPr>
            <a:xfrm>
              <a:off x="684360" y="4292640"/>
              <a:ext cx="8064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コンピュータが読み取りやすい形であることを「機械判読に適している」という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データの構造（例えばタイトルや図表等）をコンピュータが判別しやすく、構造の中の値（例えば数値やテキスト等）が処理しやすい形式になっていることを表す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3" name="グループ化 13"/>
          <p:cNvGrpSpPr/>
          <p:nvPr/>
        </p:nvGrpSpPr>
        <p:grpSpPr>
          <a:xfrm>
            <a:off x="2556000" y="3716280"/>
            <a:ext cx="3960720" cy="73080"/>
            <a:chOff x="2556000" y="3716280"/>
            <a:chExt cx="3960720" cy="73080"/>
          </a:xfrm>
        </p:grpSpPr>
        <p:sp>
          <p:nvSpPr>
            <p:cNvPr id="894" name="直線コネクタ 14"/>
            <p:cNvSpPr/>
            <p:nvPr/>
          </p:nvSpPr>
          <p:spPr>
            <a:xfrm>
              <a:off x="2556000" y="371628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5" name="直線コネクタ 15"/>
            <p:cNvSpPr/>
            <p:nvPr/>
          </p:nvSpPr>
          <p:spPr>
            <a:xfrm>
              <a:off x="2556000" y="378936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896" name="下矢印 35"/>
          <p:cNvSpPr/>
          <p:nvPr/>
        </p:nvSpPr>
        <p:spPr>
          <a:xfrm>
            <a:off x="4356000" y="3933720"/>
            <a:ext cx="432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d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正方形/長方形 17"/>
          <p:cNvSpPr/>
          <p:nvPr/>
        </p:nvSpPr>
        <p:spPr>
          <a:xfrm>
            <a:off x="755640" y="3284640"/>
            <a:ext cx="82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は、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コンピュータが読み取りやすい形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が望ましい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テキスト ボックス 6"/>
          <p:cNvSpPr/>
          <p:nvPr/>
        </p:nvSpPr>
        <p:spPr>
          <a:xfrm>
            <a:off x="669960" y="56610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図 1" descr=""/>
          <p:cNvPicPr/>
          <p:nvPr/>
        </p:nvPicPr>
        <p:blipFill>
          <a:blip r:embed="rId1"/>
          <a:stretch/>
        </p:blipFill>
        <p:spPr>
          <a:xfrm>
            <a:off x="390600" y="1123920"/>
            <a:ext cx="8362800" cy="4753080"/>
          </a:xfrm>
          <a:prstGeom prst="rect">
            <a:avLst/>
          </a:prstGeom>
          <a:ln w="0">
            <a:noFill/>
          </a:ln>
        </p:spPr>
      </p:pic>
      <p:sp>
        <p:nvSpPr>
          <p:cNvPr id="90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52B-B318-48D8-A9FA-A26E38FDC130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ファイル形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2" name="テキスト ボックス 7"/>
          <p:cNvSpPr/>
          <p:nvPr/>
        </p:nvSpPr>
        <p:spPr>
          <a:xfrm>
            <a:off x="468360" y="907920"/>
            <a:ext cx="3382920" cy="18003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L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Licens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usabl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F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R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niform Resource Identifi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inke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テキスト ボックス 6"/>
          <p:cNvSpPr/>
          <p:nvPr/>
        </p:nvSpPr>
        <p:spPr>
          <a:xfrm>
            <a:off x="390600" y="5872320"/>
            <a:ext cx="83628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リーダ育成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11D1-343B-4D3E-91AC-75DC6AC95337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の種類に適したファイル形式の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6" name="正方形/長方形 4"/>
          <p:cNvSpPr/>
          <p:nvPr/>
        </p:nvSpPr>
        <p:spPr>
          <a:xfrm>
            <a:off x="496800" y="1052640"/>
            <a:ext cx="831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情報の種類によって、適したファイル形式も異な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784080" y="1557360"/>
          <a:ext cx="7713720" cy="2814480"/>
        </p:xfrm>
        <a:graphic>
          <a:graphicData uri="http://schemas.openxmlformats.org/drawingml/2006/table">
            <a:tbl>
              <a:tblPr/>
              <a:tblGrid>
                <a:gridCol w="4176720"/>
                <a:gridCol w="1876680"/>
                <a:gridCol w="166032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情報の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ファイル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統計情報、施設の一覧など一覧形式となっている情報、予算・決算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表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SV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報告書など、文章による情報や、図形、画像等が混在している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書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DF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主に地図と組合せて利用する情報で、線や面などのデータを含むも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理空間情報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  <p:sp>
        <p:nvSpPr>
          <p:cNvPr id="908" name="正方形/長方形 7"/>
          <p:cNvSpPr/>
          <p:nvPr/>
        </p:nvSpPr>
        <p:spPr>
          <a:xfrm>
            <a:off x="1073160" y="5157720"/>
            <a:ext cx="7424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オープンデータとして公開する際は、利用者が加工しやすく、コンピュ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プログラムが処理しやすい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形式」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星 16 27"/>
          <p:cNvSpPr/>
          <p:nvPr/>
        </p:nvSpPr>
        <p:spPr>
          <a:xfrm>
            <a:off x="712800" y="4653000"/>
            <a:ext cx="1224000" cy="647640"/>
          </a:xfrm>
          <a:custGeom>
            <a:avLst/>
            <a:gdLst>
              <a:gd name="textAreaLeft" fmla="*/ 279360 w 1224000"/>
              <a:gd name="textAreaRight" fmla="*/ 944640 w 1224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5a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ＭＳ Ｐゴシック"/>
              </a:rPr>
              <a:t>オススメ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DC1D-8C97-4328-808E-BD75AB5E43AD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正方形/長方形 8"/>
          <p:cNvSpPr/>
          <p:nvPr/>
        </p:nvSpPr>
        <p:spPr>
          <a:xfrm>
            <a:off x="539640" y="907920"/>
            <a:ext cx="835344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rmAutofit fontScale="97000"/>
          </a:bodyPr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世界最先端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国家創造宣言・官民データ活用推進基本計画における重点分野や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「地方公共団体アンケート」（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実施）における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ニーズの高い分野を中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心に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先進地方公共団体の公開済データ等を参考にしつつ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データセットを選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推奨データセット」は、地方公共団体によるオープンデータの公開とその利活用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促進するため、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オープンデータに取り組み始める地方公共団体の参考となるよう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公開することが推奨されるデータセット及びフォーマット標準例をとりまとめたもの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82692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2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介護サービス事業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医療機関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化財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観光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7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無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L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クセスポイ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471636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8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トイレ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9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消防水利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指定緊急避難場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共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子育て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sp>
        <p:nvSpPr>
          <p:cNvPr id="917" name="正方形/長方形 11"/>
          <p:cNvSpPr/>
          <p:nvPr/>
        </p:nvSpPr>
        <p:spPr>
          <a:xfrm>
            <a:off x="826920" y="5904000"/>
            <a:ext cx="763272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日　内閣官房情報通信技術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総合戦略室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「推奨データセットについて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A983-4501-458C-ABBA-B10D34FC4B3C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一覧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0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正方形/長方形 12"/>
          <p:cNvSpPr/>
          <p:nvPr/>
        </p:nvSpPr>
        <p:spPr>
          <a:xfrm>
            <a:off x="858960" y="6093000"/>
            <a:ext cx="7445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「オープンデータ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https://cio.go.jp/policy-opendata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テキスト ボックス 14"/>
          <p:cNvSpPr/>
          <p:nvPr/>
        </p:nvSpPr>
        <p:spPr>
          <a:xfrm>
            <a:off x="284040" y="692280"/>
            <a:ext cx="871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作成にあたり準拠すべきルールやフォーマット等は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に公開されて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3" name="図 1" descr=""/>
          <p:cNvPicPr/>
          <p:nvPr/>
        </p:nvPicPr>
        <p:blipFill>
          <a:blip r:embed="rId1"/>
          <a:stretch/>
        </p:blipFill>
        <p:spPr>
          <a:xfrm>
            <a:off x="826920" y="1311120"/>
            <a:ext cx="747720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図 1" descr=""/>
          <p:cNvPicPr/>
          <p:nvPr/>
        </p:nvPicPr>
        <p:blipFill>
          <a:blip r:embed="rId1"/>
          <a:stretch/>
        </p:blipFill>
        <p:spPr>
          <a:xfrm>
            <a:off x="343080" y="1989000"/>
            <a:ext cx="8458200" cy="2752920"/>
          </a:xfrm>
          <a:prstGeom prst="rect">
            <a:avLst/>
          </a:prstGeom>
          <a:ln w="0">
            <a:noFill/>
          </a:ln>
        </p:spPr>
      </p:pic>
      <p:sp>
        <p:nvSpPr>
          <p:cNvPr id="92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5169-CBA1-4814-B7FC-11D5A8C5E167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2060"/>
                </a:solidFill>
                <a:latin typeface="メイリオ"/>
              </a:rPr>
              <a:t>推奨データセット作成にあたり準拠すべきルール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正方形/長方形 7"/>
          <p:cNvSpPr/>
          <p:nvPr/>
        </p:nvSpPr>
        <p:spPr>
          <a:xfrm>
            <a:off x="539640" y="936720"/>
            <a:ext cx="835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ごとに、項目を公開する際のデータ形式等がデータ項目定義書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定められて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正方形/長方形 8"/>
          <p:cNvSpPr/>
          <p:nvPr/>
        </p:nvSpPr>
        <p:spPr>
          <a:xfrm>
            <a:off x="380880" y="4741920"/>
            <a:ext cx="85838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月３日　内閣官房情報通信技術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総合戦略室「データ項目定義書（ベータ版）」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テキスト ボックス 10"/>
          <p:cNvSpPr/>
          <p:nvPr/>
        </p:nvSpPr>
        <p:spPr>
          <a:xfrm>
            <a:off x="3730680" y="1282680"/>
            <a:ext cx="5089320" cy="671400"/>
          </a:xfrm>
          <a:prstGeom prst="wedgeRoundRectCallout">
            <a:avLst>
              <a:gd name="adj1" fmla="val -82532"/>
              <a:gd name="adj2" fmla="val 80912"/>
              <a:gd name="adj3" fmla="val 16667"/>
            </a:avLst>
          </a:prstGeom>
          <a:solidFill>
            <a:srgbClr val="ffffff"/>
          </a:solidFill>
          <a:ln w="19080">
            <a:solidFill>
              <a:srgbClr val="a8163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区分（必須・任意等）を参考に保有している情報から公開を進めることを推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正方形/長方形 11"/>
          <p:cNvSpPr/>
          <p:nvPr/>
        </p:nvSpPr>
        <p:spPr>
          <a:xfrm>
            <a:off x="395280" y="5059440"/>
            <a:ext cx="8361360" cy="17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凡例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：データセットの核となる必須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〇　　：該当推奨データセットを活用したアプリの基本機能を簡単に実現するため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空白 ：該当推奨データセットを活用したアプリの利便性の高い付加価値サービス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実現するために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正方形/長方形 15"/>
          <p:cNvSpPr/>
          <p:nvPr/>
        </p:nvSpPr>
        <p:spPr>
          <a:xfrm>
            <a:off x="380880" y="1484280"/>
            <a:ext cx="8512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0.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緊急避難場所一覧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B9F6-647F-4530-B7F8-07751354A91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継続していくための取組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正方形/長方形 28"/>
          <p:cNvSpPr/>
          <p:nvPr/>
        </p:nvSpPr>
        <p:spPr>
          <a:xfrm>
            <a:off x="395280" y="4292640"/>
            <a:ext cx="5329080" cy="43344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オープンデータを継続していくための取り組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額縁 50"/>
          <p:cNvSpPr/>
          <p:nvPr/>
        </p:nvSpPr>
        <p:spPr>
          <a:xfrm>
            <a:off x="900000" y="558972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2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オープンデータを拡充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額縁 51"/>
          <p:cNvSpPr/>
          <p:nvPr/>
        </p:nvSpPr>
        <p:spPr>
          <a:xfrm>
            <a:off x="900000" y="486900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1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公開したオープンデータを更新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テキスト ボックス 6"/>
          <p:cNvSpPr/>
          <p:nvPr/>
        </p:nvSpPr>
        <p:spPr>
          <a:xfrm>
            <a:off x="669960" y="623736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40" name="図 1" descr=""/>
          <p:cNvPicPr/>
          <p:nvPr/>
        </p:nvPicPr>
        <p:blipFill>
          <a:blip r:embed="rId1"/>
          <a:stretch/>
        </p:blipFill>
        <p:spPr>
          <a:xfrm>
            <a:off x="357120" y="892080"/>
            <a:ext cx="84297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C422-FCE5-4F0E-AC34-930ECF26215F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更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正方形/長方形 67"/>
          <p:cNvSpPr/>
          <p:nvPr/>
        </p:nvSpPr>
        <p:spPr>
          <a:xfrm>
            <a:off x="284040" y="148428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方法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正方形/長方形 68"/>
          <p:cNvSpPr/>
          <p:nvPr/>
        </p:nvSpPr>
        <p:spPr>
          <a:xfrm>
            <a:off x="324000" y="907920"/>
            <a:ext cx="805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データの内容に応じて、更新方法や更新タイミングを決め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324000" y="1989000"/>
          <a:ext cx="8569080" cy="114012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の内容を、新しいものに置き換え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しくオープンデータを追加してい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7" name="正方形/長方形 70"/>
          <p:cNvSpPr/>
          <p:nvPr/>
        </p:nvSpPr>
        <p:spPr>
          <a:xfrm>
            <a:off x="284040" y="378936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タイミング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324000" y="4292640"/>
          <a:ext cx="8569080" cy="165420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タイミ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随時変更が発生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⇒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団体内でオープンデータを更新する周期を決め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元のデータの更新に合わせて、定期的にオープンデータの変更や追加を行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9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1CD4-1F2E-47A1-A86C-3647C2D9EF4E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（データ）のあり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Rectangle 186"/>
          <p:cNvSpPr/>
          <p:nvPr/>
        </p:nvSpPr>
        <p:spPr>
          <a:xfrm>
            <a:off x="684360" y="2060640"/>
            <a:ext cx="8064360" cy="3125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２条（情報公開の総合的な推進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７条（情報の提供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自治基本条例第８条（情報共有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Rectangle 186"/>
          <p:cNvSpPr/>
          <p:nvPr/>
        </p:nvSpPr>
        <p:spPr>
          <a:xfrm>
            <a:off x="684360" y="1197000"/>
            <a:ext cx="8064360" cy="863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公開・情報提供→情報共有・情報活用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AB45-F75E-4DA4-B298-B54C94ED9F0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循環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468360" y="1098720"/>
          <a:ext cx="8207280" cy="485136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2263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協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社会課題を解決するためのサービ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を開発し、実装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環境整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活用を前提とした標準化された形式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内容のデータを生成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</a:tr>
              <a:tr h="2587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参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社会課題探索の中で、データの価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を発見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透明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データを権利処理した形で一元的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提供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</a:tr>
            </a:tbl>
          </a:graphicData>
        </a:graphic>
      </p:graphicFrame>
      <p:sp>
        <p:nvSpPr>
          <p:cNvPr id="957" name="左カーブ矢印 11"/>
          <p:cNvSpPr/>
          <p:nvPr/>
        </p:nvSpPr>
        <p:spPr>
          <a:xfrm rot="5400000">
            <a:off x="4244040" y="3234240"/>
            <a:ext cx="493560" cy="882720"/>
          </a:xfrm>
          <a:custGeom>
            <a:avLst/>
            <a:gdLst>
              <a:gd name="textAreaLeft" fmla="*/ 65880 w 493560"/>
              <a:gd name="textAreaRight" fmla="*/ 427680 w 493560"/>
              <a:gd name="textAreaTop" fmla="*/ 174240 h 882720"/>
              <a:gd name="textAreaBottom" fmla="*/ 64656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3410179"/>
                <a:lnTo>
                  <a:pt x="5400" y="21329"/>
                </a:lnTo>
                <a:lnTo>
                  <a:pt x="0" y="18580"/>
                </a:lnTo>
                <a:lnTo>
                  <a:pt x="5400" y="15288"/>
                </a:lnTo>
                <a:lnTo>
                  <a:pt x="5400" y="16798"/>
                </a:lnTo>
                <a:arcTo wR="21600" hR="8535" stAng="3410179" swAng="-3166330"/>
                <a:lnTo>
                  <a:pt x="21259" y="10045"/>
                </a:lnTo>
                <a:arcTo wR="21600" hR="8535" stAng="-243850" swAng="-5156150"/>
                <a:close/>
              </a:path>
              <a:path fill="darkenLess"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-243850"/>
                <a:lnTo>
                  <a:pt x="21259" y="10045"/>
                </a:lnTo>
                <a:arcTo wR="21600" hR="8535" stAng="-243850" swAng="-5156150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左カーブ矢印 13"/>
          <p:cNvSpPr/>
          <p:nvPr/>
        </p:nvSpPr>
        <p:spPr>
          <a:xfrm rot="16200000">
            <a:off x="4300200" y="2571120"/>
            <a:ext cx="543240" cy="1044720"/>
          </a:xfrm>
          <a:custGeom>
            <a:avLst/>
            <a:gdLst>
              <a:gd name="textAreaLeft" fmla="*/ 72720 w 543240"/>
              <a:gd name="textAreaRight" fmla="*/ 470520 w 543240"/>
              <a:gd name="textAreaTop" fmla="*/ 210240 h 1044720"/>
              <a:gd name="textAreaBottom" fmla="*/ 76680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3439399"/>
                <a:lnTo>
                  <a:pt x="5400" y="21324"/>
                </a:lnTo>
                <a:lnTo>
                  <a:pt x="0" y="18794"/>
                </a:lnTo>
                <a:lnTo>
                  <a:pt x="5400" y="15711"/>
                </a:lnTo>
                <a:lnTo>
                  <a:pt x="5400" y="17114"/>
                </a:lnTo>
                <a:arcTo wR="21600" hR="8695" stAng="3439399" swAng="-3213383"/>
                <a:lnTo>
                  <a:pt x="21317" y="10099"/>
                </a:lnTo>
                <a:arcTo wR="21600" hR="8695" stAng="-226016" swAng="-5173984"/>
                <a:close/>
              </a:path>
              <a:path fill="darkenLess"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-226016"/>
                <a:lnTo>
                  <a:pt x="21317" y="10099"/>
                </a:lnTo>
                <a:arcTo wR="21600" hR="8695" stAng="-226016" swAng="-5173984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D47C-43AB-4DD9-8CD6-E4DBA5DF4474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サブタイトル 2"/>
          <p:cNvSpPr/>
          <p:nvPr/>
        </p:nvSpPr>
        <p:spPr>
          <a:xfrm>
            <a:off x="468360" y="3875040"/>
            <a:ext cx="8280360" cy="895320"/>
          </a:xfrm>
          <a:prstGeom prst="rect">
            <a:avLst/>
          </a:prstGeom>
          <a:solidFill>
            <a:srgbClr val="cb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４年１０月１日ホームページリニューアルが契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市議会と共にトライアル（試行）を開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始めたきっかけ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サブタイトル 2"/>
          <p:cNvSpPr/>
          <p:nvPr/>
        </p:nvSpPr>
        <p:spPr>
          <a:xfrm>
            <a:off x="468360" y="4738680"/>
            <a:ext cx="8280360" cy="1695600"/>
          </a:xfrm>
          <a:prstGeom prst="rect">
            <a:avLst/>
          </a:prstGeom>
          <a:solidFill>
            <a:srgbClr val="e9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等で既に掲載しているデータを対象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公共施設所在地、文化財、投票所所在地、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ED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設置場所、避難場所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駐輪場（自転車駐車場）、ごみの収集曜日、ごみの分別・処分方法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年齢別・男女別人口、町丁字別人口　　等　　２５種類の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3" name="図 1" descr=""/>
          <p:cNvPicPr/>
          <p:nvPr/>
        </p:nvPicPr>
        <p:blipFill>
          <a:blip r:embed="rId1"/>
          <a:stretch/>
        </p:blipFill>
        <p:spPr>
          <a:xfrm>
            <a:off x="179280" y="1111320"/>
            <a:ext cx="882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E749-B7EB-4E7C-8AC2-AC683C7EBB46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28560" y="836640"/>
            <a:ext cx="78868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原則情報は公開し活用してもらう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645840" y="1832040"/>
            <a:ext cx="788652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個人情報保護条例第２条１項（定義）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　→特定の個人が識別され、又は識別され得るもの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 u="sng">
                <a:solidFill>
                  <a:srgbClr val="ff0000"/>
                </a:solidFill>
                <a:uFillTx/>
                <a:latin typeface="ＭＳ Ｐゴシック"/>
              </a:rPr>
              <a:t>つまり特定の個人が識別されなければ原則情報を公開する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0000"/>
                </a:solidFill>
                <a:latin typeface="ＭＳ Ｐゴシック"/>
              </a:rPr>
              <a:t>公開した情報をどんどん活用してもらう！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2" name="下矢印 3"/>
          <p:cNvSpPr/>
          <p:nvPr/>
        </p:nvSpPr>
        <p:spPr>
          <a:xfrm>
            <a:off x="3755880" y="3652920"/>
            <a:ext cx="960480" cy="639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01538"/>
          </a:solidFill>
          <a:ln w="12600">
            <a:solidFill>
              <a:srgbClr val="a81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77CD-925F-432E-95B9-A7BC610410AC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45840" y="1616040"/>
            <a:ext cx="78865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ご清聴ありがとうございました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5" name="コンテンツ プレースホルダー 2"/>
          <p:cNvSpPr/>
          <p:nvPr/>
        </p:nvSpPr>
        <p:spPr>
          <a:xfrm>
            <a:off x="3051000" y="3141720"/>
            <a:ext cx="5985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総合政策部　情報政策・改革改善課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担当：佐藤　慎一郎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電話番号：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04-7150-6078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ail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ieikaikaku@city.nagareyama.lg.jp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5C5-C3DC-4F53-87D9-852E74036981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サブタイトル 2"/>
          <p:cNvSpPr/>
          <p:nvPr/>
        </p:nvSpPr>
        <p:spPr>
          <a:xfrm>
            <a:off x="468360" y="4357800"/>
            <a:ext cx="8280360" cy="4251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５年度及び平成２６年度にアプリコンテストを開催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アプリコンテストの実施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サブタイトル 2"/>
          <p:cNvSpPr/>
          <p:nvPr/>
        </p:nvSpPr>
        <p:spPr>
          <a:xfrm>
            <a:off x="468360" y="4753080"/>
            <a:ext cx="8280360" cy="198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流山のオープンデータを利用した、楽しい・便利なアプリを募集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役所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議会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プログラミング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公開中のアプリ　　「ゴミ分別・処分方法検索アプリ」等　５件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8" name="図 1" descr=""/>
          <p:cNvPicPr/>
          <p:nvPr/>
        </p:nvPicPr>
        <p:blipFill>
          <a:blip r:embed="rId1"/>
          <a:stretch/>
        </p:blipFill>
        <p:spPr>
          <a:xfrm>
            <a:off x="1104840" y="858960"/>
            <a:ext cx="69343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9752-1965-43CF-AEC6-885E2444455A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活用した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正方形/長方形 17"/>
          <p:cNvSpPr/>
          <p:nvPr/>
        </p:nvSpPr>
        <p:spPr>
          <a:xfrm>
            <a:off x="971640" y="692280"/>
            <a:ext cx="72723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防災科学技術研究所との共同研究の一環として構築し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地域での各種活動を支援する地域ポータルサイト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正方形/長方形 17"/>
          <p:cNvSpPr/>
          <p:nvPr/>
        </p:nvSpPr>
        <p:spPr>
          <a:xfrm>
            <a:off x="1419120" y="6303960"/>
            <a:ext cx="632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://ecom-plat.jp/nagareyama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3" name="図 1" descr=""/>
          <p:cNvPicPr/>
          <p:nvPr/>
        </p:nvPicPr>
        <p:blipFill>
          <a:blip r:embed="rId1"/>
          <a:stretch/>
        </p:blipFill>
        <p:spPr>
          <a:xfrm>
            <a:off x="1419120" y="1346040"/>
            <a:ext cx="6305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D3FE-7F69-4123-8DA7-C5F45168B9FE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流山市オープンデータカタログ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正方形/長方形 17"/>
          <p:cNvSpPr/>
          <p:nvPr/>
        </p:nvSpPr>
        <p:spPr>
          <a:xfrm>
            <a:off x="971640" y="69228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掲載件数　３５０件（令和元年１１月１日現在）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正方形/長方形 17"/>
          <p:cNvSpPr/>
          <p:nvPr/>
        </p:nvSpPr>
        <p:spPr>
          <a:xfrm>
            <a:off x="1428840" y="6453360"/>
            <a:ext cx="62863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s://www.city.nagareyama.chiba.jp/opendata/index.ht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8" name="図 1" descr=""/>
          <p:cNvPicPr/>
          <p:nvPr/>
        </p:nvPicPr>
        <p:blipFill>
          <a:blip r:embed="rId1"/>
          <a:stretch/>
        </p:blipFill>
        <p:spPr>
          <a:xfrm>
            <a:off x="1428840" y="1125360"/>
            <a:ext cx="628632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D570-00A8-443A-A06B-E44F0D2DFF06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向けた課題と目標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Rectangle 186"/>
          <p:cNvSpPr/>
          <p:nvPr/>
        </p:nvSpPr>
        <p:spPr>
          <a:xfrm>
            <a:off x="684360" y="1455840"/>
            <a:ext cx="8064360" cy="1973160"/>
          </a:xfrm>
          <a:prstGeom prst="rect">
            <a:avLst/>
          </a:prstGeom>
          <a:solidFill>
            <a:srgbClr val="ffe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なデータを対象と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作成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利用状況を把握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Rectangle 186"/>
          <p:cNvSpPr/>
          <p:nvPr/>
        </p:nvSpPr>
        <p:spPr>
          <a:xfrm>
            <a:off x="826920" y="1197000"/>
            <a:ext cx="107172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課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Rectangle 186"/>
          <p:cNvSpPr/>
          <p:nvPr/>
        </p:nvSpPr>
        <p:spPr>
          <a:xfrm>
            <a:off x="684360" y="4121280"/>
            <a:ext cx="8064360" cy="1539720"/>
          </a:xfrm>
          <a:prstGeom prst="rect">
            <a:avLst/>
          </a:prstGeom>
          <a:solidFill>
            <a:srgbClr val="e9f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行政だけでなく住民、企業、ＮＰＯ等に使ってもらう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を充実させ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Rectangle 186"/>
          <p:cNvSpPr/>
          <p:nvPr/>
        </p:nvSpPr>
        <p:spPr>
          <a:xfrm>
            <a:off x="826920" y="3860640"/>
            <a:ext cx="107172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目標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91D3-31DA-4C05-B69D-4640BC3781EE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ガイドラインの作成と職員研修の実施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Rectangle 186"/>
          <p:cNvSpPr/>
          <p:nvPr/>
        </p:nvSpPr>
        <p:spPr>
          <a:xfrm>
            <a:off x="684360" y="1773360"/>
            <a:ext cx="8064360" cy="1501560"/>
          </a:xfrm>
          <a:prstGeom prst="rect">
            <a:avLst/>
          </a:prstGeom>
          <a:solidFill>
            <a:srgbClr val="e8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必要性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目的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形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Rectangle 186"/>
          <p:cNvSpPr/>
          <p:nvPr/>
        </p:nvSpPr>
        <p:spPr>
          <a:xfrm>
            <a:off x="684360" y="1197000"/>
            <a:ext cx="806436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推進に関するガイドライン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Rectangle 186"/>
          <p:cNvSpPr/>
          <p:nvPr/>
        </p:nvSpPr>
        <p:spPr>
          <a:xfrm>
            <a:off x="684360" y="4194000"/>
            <a:ext cx="8064360" cy="2082960"/>
          </a:xfrm>
          <a:prstGeom prst="rect">
            <a:avLst/>
          </a:pr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管理職向けにオープンデータの概要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一般職員向けにオープンデータの公開手順（外部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の重要性（市長講話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講習（総務省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Rectangle 186"/>
          <p:cNvSpPr/>
          <p:nvPr/>
        </p:nvSpPr>
        <p:spPr>
          <a:xfrm>
            <a:off x="684360" y="3645000"/>
            <a:ext cx="8064360" cy="576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職員研修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E3CD-0315-43C6-B81A-6904CC6963A9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の掘り起こし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3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各所管課で保有しているデータを掘り起こす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正方形/長方形 20"/>
          <p:cNvSpPr/>
          <p:nvPr/>
        </p:nvSpPr>
        <p:spPr>
          <a:xfrm>
            <a:off x="324000" y="2368440"/>
            <a:ext cx="44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掘り起こしイメー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08000" y="2728800"/>
          <a:ext cx="8856720" cy="3224160"/>
        </p:xfrm>
        <a:graphic>
          <a:graphicData uri="http://schemas.openxmlformats.org/drawingml/2006/table">
            <a:tbl>
              <a:tblPr/>
              <a:tblGrid>
                <a:gridCol w="1655640"/>
                <a:gridCol w="1728720"/>
                <a:gridCol w="1008360"/>
                <a:gridCol w="1079280"/>
                <a:gridCol w="839880"/>
                <a:gridCol w="888840"/>
                <a:gridCol w="792360"/>
                <a:gridCol w="863640"/>
              </a:tblGrid>
              <a:tr h="83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情報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管理担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部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頻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他者権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ニー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○○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財政調整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CS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△△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スポッ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商工振興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P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イベント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秘書広報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報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html,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●●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設置場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防災危機管理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紙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▲▲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市民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x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四半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B896-C05C-448E-899E-DC1DC7C5E62D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掘り起こしの着目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Rectangle 186"/>
          <p:cNvSpPr/>
          <p:nvPr/>
        </p:nvSpPr>
        <p:spPr>
          <a:xfrm>
            <a:off x="684360" y="836640"/>
            <a:ext cx="8064360" cy="4492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国や県へ報告した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エクセルを利用している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決算審査時に作成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システムから抽出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調査やアンケートの結果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届出件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グラフ化した元の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変動する数字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参加者人数　　　　　　　　　　　　　　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Rectangle 186"/>
          <p:cNvSpPr/>
          <p:nvPr/>
        </p:nvSpPr>
        <p:spPr>
          <a:xfrm>
            <a:off x="684360" y="5516640"/>
            <a:ext cx="8064360" cy="576360"/>
          </a:xfrm>
          <a:prstGeom prst="rect">
            <a:avLst/>
          </a:prstGeom>
          <a:solidFill>
            <a:srgbClr val="ffe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庁外からのオープンデータダウンロード実績集計結果も活用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8T02:47:22Z</dcterms:created>
  <dc:creator/>
  <dc:description/>
  <cp:keywords/>
  <dc:language>en-US</dc:language>
  <cp:lastModifiedBy/>
  <dcterms:modified xsi:type="dcterms:W3CDTF">2020-01-08T02:47:38Z</dcterms:modified>
  <cp:revision>1</cp:revision>
  <dc:subject/>
  <dc:title/>
</cp:coreProperties>
</file>